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4A9B-C973-46E5-9152-587661F96F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A349-D0BD-4310-868D-38D81C29BF9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996-7D8D-4C59-90D4-BEB42BF0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024A-5F72-4C18-ADD5-F6FCC93B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7475-78C9-4642-928F-D04E75FF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85FB-8443-4EB3-8508-4DDAC911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033-4689-4955-92B1-0144ABF1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BFAC-DCB4-4856-8325-C7F5CDEF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01E2-C636-48E6-8966-242B0F53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E5F-7A65-463E-B9EF-E5088DB5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3E05-4008-4BAC-82C3-045B6ADB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3C1-7D13-4BFE-A6E4-9E7B28E1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FD41-F9FA-4753-8345-7157A59A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C18A-C3F6-4E30-9490-0E56DB4B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8B12-79F6-44D9-8DA9-5EA16D383D2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150 Conector recto de flecha"/>
          <p:cNvCxnSpPr/>
          <p:nvPr/>
        </p:nvCxnSpPr>
        <p:spPr>
          <a:xfrm>
            <a:off x="4286160" y="6071760"/>
            <a:ext cx="10008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" name="148 Forma libre"/>
          <p:cNvSpPr/>
          <p:nvPr/>
        </p:nvSpPr>
        <p:spPr>
          <a:xfrm>
            <a:off x="5340240" y="4797360"/>
            <a:ext cx="2743200" cy="1125720"/>
          </a:xfrm>
          <a:custGeom>
            <a:avLst/>
            <a:gdLst/>
            <a:ahLst/>
            <a:rect l="l" t="t" r="r" b="b"/>
            <a:pathLst>
              <a:path w="2743200" h="1126435">
                <a:moveTo>
                  <a:pt x="0" y="1126435"/>
                </a:moveTo>
                <a:lnTo>
                  <a:pt x="0" y="795130"/>
                </a:lnTo>
                <a:lnTo>
                  <a:pt x="993913" y="795130"/>
                </a:lnTo>
                <a:lnTo>
                  <a:pt x="993913" y="0"/>
                </a:lnTo>
                <a:lnTo>
                  <a:pt x="274320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143 Forma"/>
          <p:cNvCxnSpPr/>
          <p:nvPr/>
        </p:nvCxnSpPr>
        <p:spPr>
          <a:xfrm flipH="1" rot="16200000">
            <a:off x="1724040" y="4668480"/>
            <a:ext cx="1087920" cy="1751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141 Conector recto de flecha"/>
          <p:cNvCxnSpPr>
            <a:endCxn id="52" idx="0"/>
          </p:cNvCxnSpPr>
          <p:nvPr/>
        </p:nvCxnSpPr>
        <p:spPr>
          <a:xfrm>
            <a:off x="1392840" y="4000680"/>
            <a:ext cx="360" cy="584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3" name="139 Conector recto"/>
          <p:cNvSpPr/>
          <p:nvPr/>
        </p:nvSpPr>
        <p:spPr>
          <a:xfrm>
            <a:off x="2571840" y="3714840"/>
            <a:ext cx="1643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8"/>
          <p:cNvSpPr/>
          <p:nvPr/>
        </p:nvSpPr>
        <p:spPr>
          <a:xfrm>
            <a:off x="2857680" y="3571920"/>
            <a:ext cx="857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consoli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34 Conector recto"/>
          <p:cNvSpPr/>
          <p:nvPr/>
        </p:nvSpPr>
        <p:spPr>
          <a:xfrm>
            <a:off x="4643280" y="3357720"/>
            <a:ext cx="0" cy="41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33 Conector recto"/>
          <p:cNvSpPr/>
          <p:nvPr/>
        </p:nvSpPr>
        <p:spPr>
          <a:xfrm flipH="1">
            <a:off x="4642920" y="1571760"/>
            <a:ext cx="18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125 Conector angular"/>
          <p:cNvCxnSpPr/>
          <p:nvPr/>
        </p:nvCxnSpPr>
        <p:spPr>
          <a:xfrm flipH="1" rot="16200000">
            <a:off x="2664360" y="-502920"/>
            <a:ext cx="3958200" cy="6858720"/>
          </a:xfrm>
          <a:prstGeom prst="bentConnector3">
            <a:avLst>
              <a:gd name="adj1" fmla="val 1649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123 Conector recto"/>
          <p:cNvSpPr/>
          <p:nvPr/>
        </p:nvSpPr>
        <p:spPr>
          <a:xfrm>
            <a:off x="5786280" y="64296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22 Conector recto"/>
          <p:cNvSpPr/>
          <p:nvPr/>
        </p:nvSpPr>
        <p:spPr>
          <a:xfrm>
            <a:off x="2000160" y="642960"/>
            <a:ext cx="14288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3"/>
          <p:cNvSpPr/>
          <p:nvPr/>
        </p:nvSpPr>
        <p:spPr>
          <a:xfrm>
            <a:off x="285840" y="425520"/>
            <a:ext cx="18572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La Revol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dust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214200" y="1496880"/>
            <a:ext cx="20718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ecimiento de 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oducción y expansión de los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642960" y="112248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demás produ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3643200" y="71280"/>
            <a:ext cx="19288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ugares de extra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materias pr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7215120" y="395280"/>
            <a:ext cx="157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olidar un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gobiern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3643200" y="639720"/>
            <a:ext cx="192888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centros indust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producción y zonas de merc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3929040" y="1428840"/>
            <a:ext cx="14288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imperial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7358040" y="1428840"/>
            <a:ext cx="1285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xplo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3000240" y="2357280"/>
            <a:ext cx="15717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posi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acion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pendencia sobre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lon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4714920" y="2357280"/>
            <a:ext cx="15717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ucha entre potenci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r el control de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8"/>
          <p:cNvSpPr/>
          <p:nvPr/>
        </p:nvSpPr>
        <p:spPr>
          <a:xfrm>
            <a:off x="4214880" y="17859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1"/>
          <p:cNvSpPr/>
          <p:nvPr/>
        </p:nvSpPr>
        <p:spPr>
          <a:xfrm>
            <a:off x="3857760" y="3581280"/>
            <a:ext cx="15714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 final del siglo 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1"/>
          <p:cNvSpPr/>
          <p:nvPr/>
        </p:nvSpPr>
        <p:spPr>
          <a:xfrm>
            <a:off x="428760" y="321480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os Estados-Nación c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 natur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428760" y="371484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pañ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ltinacion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1"/>
          <p:cNvSpPr/>
          <p:nvPr/>
        </p:nvSpPr>
        <p:spPr>
          <a:xfrm>
            <a:off x="428760" y="4584600"/>
            <a:ext cx="192852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lucha por los recur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ergétic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1"/>
          <p:cNvSpPr/>
          <p:nvPr/>
        </p:nvSpPr>
        <p:spPr>
          <a:xfrm>
            <a:off x="428760" y="5442120"/>
            <a:ext cx="18572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mercado trasnacional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7358040" y="221472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os territo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7072200" y="2928960"/>
            <a:ext cx="18576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ursos natural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ociedades manipul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1"/>
          <p:cNvSpPr/>
          <p:nvPr/>
        </p:nvSpPr>
        <p:spPr>
          <a:xfrm>
            <a:off x="7143840" y="3780000"/>
            <a:ext cx="1785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cción en ma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y masificación 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7215120" y="4905360"/>
            <a:ext cx="171468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isión entre paí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dustrializado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proveedor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5715000" y="496080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1"/>
          <p:cNvSpPr/>
          <p:nvPr/>
        </p:nvSpPr>
        <p:spPr>
          <a:xfrm>
            <a:off x="5572080" y="57862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industrializ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5572080" y="614376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productores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terias pri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3143160" y="5961240"/>
            <a:ext cx="12859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depend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8"/>
          <p:cNvSpPr/>
          <p:nvPr/>
        </p:nvSpPr>
        <p:spPr>
          <a:xfrm>
            <a:off x="2357280" y="357120"/>
            <a:ext cx="8575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par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8"/>
          <p:cNvSpPr/>
          <p:nvPr/>
        </p:nvSpPr>
        <p:spPr>
          <a:xfrm>
            <a:off x="6143760" y="420840"/>
            <a:ext cx="6429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 l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ual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98"/>
          <p:cNvSpPr/>
          <p:nvPr/>
        </p:nvSpPr>
        <p:spPr>
          <a:xfrm>
            <a:off x="2571840" y="148428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pulsa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8"/>
          <p:cNvSpPr/>
          <p:nvPr/>
        </p:nvSpPr>
        <p:spPr>
          <a:xfrm>
            <a:off x="5786280" y="148428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apoy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8"/>
          <p:cNvSpPr/>
          <p:nvPr/>
        </p:nvSpPr>
        <p:spPr>
          <a:xfrm>
            <a:off x="7643880" y="184140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8"/>
          <p:cNvSpPr/>
          <p:nvPr/>
        </p:nvSpPr>
        <p:spPr>
          <a:xfrm>
            <a:off x="7643880" y="25718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 busca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7572240" y="342900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que impuls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7643880" y="442908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bas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5929200" y="528624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8"/>
          <p:cNvSpPr/>
          <p:nvPr/>
        </p:nvSpPr>
        <p:spPr>
          <a:xfrm>
            <a:off x="857160" y="4214880"/>
            <a:ext cx="1071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gener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2143080" y="60008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y reafir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928800" y="512748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contro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8"/>
          <p:cNvSpPr/>
          <p:nvPr/>
        </p:nvSpPr>
        <p:spPr>
          <a:xfrm>
            <a:off x="4572000" y="6000840"/>
            <a:ext cx="5000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117 Forma"/>
          <p:cNvCxnSpPr>
            <a:endCxn id="66" idx="1"/>
          </p:cNvCxnSpPr>
          <p:nvPr/>
        </p:nvCxnSpPr>
        <p:spPr>
          <a:xfrm flipV="1" rot="10800000">
            <a:off x="3643200" y="286560"/>
            <a:ext cx="1800" cy="673920"/>
          </a:xfrm>
          <a:prstGeom prst="bentConnector3">
            <a:avLst>
              <a:gd name="adj1" fmla="val 16175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" name="120 Conector angular"/>
          <p:cNvCxnSpPr>
            <a:stCxn id="64" idx="3"/>
            <a:endCxn id="66" idx="3"/>
          </p:cNvCxnSpPr>
          <p:nvPr/>
        </p:nvCxnSpPr>
        <p:spPr>
          <a:xfrm>
            <a:off x="5572080" y="300600"/>
            <a:ext cx="360" cy="660240"/>
          </a:xfrm>
          <a:prstGeom prst="bentConnector3">
            <a:avLst>
              <a:gd name="adj1" fmla="val 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129 Conector angular"/>
          <p:cNvCxnSpPr/>
          <p:nvPr/>
        </p:nvCxnSpPr>
        <p:spPr>
          <a:xfrm flipH="1" flipV="1" rot="5400000">
            <a:off x="4641480" y="1498680"/>
            <a:ext cx="2160" cy="171540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131 Conector angular"/>
          <p:cNvCxnSpPr/>
          <p:nvPr/>
        </p:nvCxnSpPr>
        <p:spPr>
          <a:xfrm flipH="1" flipV="1" rot="5400000">
            <a:off x="4562280" y="2157480"/>
            <a:ext cx="160920" cy="1715400"/>
          </a:xfrm>
          <a:prstGeom prst="bentConnector3">
            <a:avLst>
              <a:gd name="adj1" fmla="val -14125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137 Conector angular"/>
          <p:cNvCxnSpPr/>
          <p:nvPr/>
        </p:nvCxnSpPr>
        <p:spPr>
          <a:xfrm>
            <a:off x="2356920" y="3428640"/>
            <a:ext cx="2520" cy="50076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146 Conector angular"/>
          <p:cNvCxnSpPr/>
          <p:nvPr/>
        </p:nvCxnSpPr>
        <p:spPr>
          <a:xfrm rot="10800000">
            <a:off x="5571360" y="5928480"/>
            <a:ext cx="2520" cy="43884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03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2:29Z</dcterms:modified>
  <cp:revision>204</cp:revision>
  <dc:subject/>
  <dc:title>Diapositiva 1</dc:title>
</cp:coreProperties>
</file>